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C7A-D51B-4290-8389-9D6EDFA2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4D2-7695-4982-81BE-C4C6346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4CE34-036B-40DD-89BF-B9EF1472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AF531-47FE-4EAC-8638-55DD8E45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DC199-084B-4182-9328-201F17E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E7D52-0F49-44C2-9C3B-3C3DD58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A24FA-E598-45D4-9AF0-C64FCE7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35A7C-77BD-49C9-A58C-D9A1F41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0559-1169-4AD8-B6CA-BF673BD2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D686-926D-4290-81BC-4D4D1F73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C602E-4564-4C01-98A1-4261F94E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E267-0BA0-4AE2-9452-ACC0B80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23D-02CA-4B55-8A5B-AC385029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122FD-307D-4C50-9742-7B95D938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DB021-A011-4FED-85CD-6464E17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5F61-E48F-4739-949E-F322106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6307B-F515-406F-A6E2-A89260B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E552D-2E69-42E7-BE1E-A0DD2E5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55A0-5963-4A35-BF8D-B1B245A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6E04D-7EB0-4580-8670-53A839B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6957C-3024-4017-924C-5C73E23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474FA-9267-45E6-8B01-5521A4D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CEB0-58B9-4674-A6FB-2EF14B7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22A-A5BB-46C7-8F94-C0F2A4C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EBAAC-2D3F-48C2-895C-A3B51693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B80B-D288-49F0-9509-CA4C651A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DD9E6-956D-4481-98A5-BC96B8A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5F658-F2F7-44CE-9D36-99B983B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E988-6CEA-4A2F-81BE-9A7E429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C3ED6-A697-44AA-AFA6-A2C6F34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83BF8-3F81-4EF3-A7F6-86551A1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9845-D7B1-4AA9-819C-79FB542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31B4B-44A1-48B2-80B3-F329133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F5941-8D44-4660-BD2A-FD83742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2A04-C73E-4046-9B1E-D60CC4C2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52D4-B63D-4629-817F-696AFE1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B4DF-3E4B-4EF3-8685-CB6B98F1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62E2-BB4F-4240-B517-86432961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05D0E-8571-42D6-B1DF-557DCCA9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C7C1B-F152-451D-BDBE-C99237A1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11DE6-979A-45E8-94AE-E7B0A639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5A00F-A52B-491A-BDA7-6286345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F63A6-D386-400E-A6DF-3FDAB41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77923-10F2-46FB-B13A-10E8BBD2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11B27-284D-4B21-8BB9-A8C1A7F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C85-04B6-495C-9B5E-A1CB5591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5208-C1EC-4C98-90E1-471430C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EF7E7-B13B-4526-8E71-EF5E5A7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94521-95BD-42A3-BF8B-5774628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ACCEF-6234-4265-AC30-872C5753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F1424-D2E1-46ED-A85B-5CD7044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E9370-F134-4A2B-BD76-1464D50A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5217A-0BF0-40AE-A506-E3D11D9F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2E33F-EAE9-4F4F-9491-5DDF7B1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DAC10-570F-4502-8E63-DB4DCA7D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AE72C-AA0D-43BF-86BE-60ED9946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1A3-2716-4C9C-A14D-F906F4F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35D1A-6D61-43CA-B95E-6BA320D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B4DF7-4B5C-4385-BF99-A25FB16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8CE56-F358-4924-A3E2-173C663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03C12-5623-4AF2-A6BA-82D5244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5CEE3-CB82-4199-8C5E-8D56E0E9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99CD0-3E5A-4A9B-80CE-93B639CA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CA177-7069-4E9C-9FFA-2753B05A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86CFC-00B7-44F4-9186-425062D3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3DE8C-4048-412E-94A3-F42760A4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FFDAE-5DB2-49FD-B731-C24A6482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B43C-5AEF-4F43-A121-28BC38D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6BB81-793D-469C-9466-67EAF46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9818A-957A-40D4-AC71-7DE0336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B8136-DE6E-4BFC-AA6A-2A3AB3C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5FBFF-EF7D-4BDA-B9CE-681C725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7726F-61CD-41A1-B190-9F7CA9B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89B18-4704-42CA-91D1-14B916C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BE93E-3109-44F9-83CD-841ECDF5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4EAE0-EAB7-4A48-843A-E99EF72C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6974B-F704-4605-BF60-F62E741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459C8-106C-488E-A7B2-8AD7BF07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7513-0F88-4C9B-AD88-6B2884E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96C6A-7419-4BBC-841C-FF5B1CC6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19B5A-D0FE-4761-9E37-7AC666B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DC77E-CF22-4460-8940-5D74C06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976C3-CDE6-4B6F-9FB8-11777DB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71BB1-6D5D-43BF-9B77-1DFB388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F29E8-38AA-4117-83FC-E5DF8B3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76B18-70AC-41C1-BF0D-4BE3A9A3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13B23-0B03-4C98-B2F1-4C78502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97FB8-7534-45D9-B95A-B299509E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54B83-380E-41A3-BA1B-645FC6BF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F7E-DC0C-411B-A471-62F69ED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3320B-AEAC-475F-823A-E626656F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63B9E-EB0B-4E1D-A5CC-785ED742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126DD-7BED-4AC6-9C02-1C359F9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FB385-8DB1-47C0-8E27-DE2D227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4366A-F2A0-4204-A15A-BF3BE72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EC3E4-C111-4E6B-9F62-69BE84E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2B46E-9789-4FAB-BB14-847ADFEA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BFFA9-1793-4F57-BB88-89D77B4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E73F4-E78E-4696-9F96-A3296F8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7287C-7052-488E-82A0-431D8A1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F147-C9CA-420F-B1C2-27084BF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D52E3-FCF6-469B-A8BB-513A9F7D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8239F-E19E-4577-969A-79084F93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D5028-665A-40BB-BCBA-47C7A502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A2946-4627-4591-B9E8-A6D858F7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4E783-E21D-4FD2-9DC6-90D5DBB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FDDA9-9AC6-4A3B-8401-38E870B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BBADC-AEE7-4C46-AA37-C9C6EFDA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9AAD6-4E7E-4FF5-B438-F6E6982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49138-07C1-4751-BC39-E45651D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80430-35D9-4BE4-94D3-FDC5574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737-F57D-48E2-8228-75ABE01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7F3C-736E-4240-B396-2F38FA7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37D25-0F1E-4BCC-A076-1C6FD7D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C4009-2996-4B20-B977-123CD72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3B01C-8652-4A03-BE6F-B065004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F46F8C-BEFD-4448-B92E-64D7FF76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E9C16-8B8B-416A-BC56-3B301313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34A34-A568-45D1-982F-6209CB07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2C55A-BCE3-472E-81A8-1A3BE667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D3716-C0AB-44B8-AC5F-D8F40D7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71E1D-2AB9-406C-9A25-1B0A442B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2A49E-03A1-472D-8A0B-FC6B6F43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BFC4-292B-4862-B405-A277405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7D39D-29B5-4052-BDD4-531A07D9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663B1-C870-4014-92EC-7F7A225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EF806-FA84-4781-972D-B25A7BB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D64A1-84DB-4BDF-956C-7D9E619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8CE0E-D146-400D-9FC4-E1C19D6A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75670-7C2C-45C4-9119-81FAE1D1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941BC-F4BE-4E19-B0C6-766813C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E345D-CBB4-486B-BA62-533F0D1C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95BB3-7F0B-4AE7-B021-40739840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3EDC9-017D-4416-812E-3BC84BC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993B-E1D9-4DCD-9F44-E9FA725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DA65A-EDFA-4E0E-9EE3-5F9AB73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3E7BE-2941-40C7-9A52-9452B50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3DEC1-2476-48DE-9C71-F17D982D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14A74-7F2A-489D-9B60-ACD6368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1BD28-E2C9-4406-B854-B0F36CE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84F20-3109-4616-88F6-7F50698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1E697-BDB7-40E5-BF87-DCBF435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135E9-7D36-43B0-A465-BE90BCD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8B4E5-6B89-4A2B-8111-2DE6CC92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EB6E1-F5D8-44BC-BBF2-A5B47479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9FB3-7480-4195-B65B-173F261A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091F1-7E53-404F-8391-8CD8F1B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05465-49FB-4DA3-9888-1FD6493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8632B-B843-4867-AD7B-DDA2352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757E4-E2B8-434E-AB0A-4F3FE43C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726A7-6811-4BD6-B373-E9D38BF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75C69-9B1D-4B40-B5EA-3AADE9C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D1DFB-94AB-4DA8-8CB6-55C2B61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BA19F-60B1-42F9-B851-F736658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3D035-BA20-43F5-9E55-B75007F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60E30-999A-43F6-94F2-696A0ED6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9DF-FD6A-485D-AB83-466F85A8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93ECE-3EC8-425D-AA39-11BD8D86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F8C05-FB69-4377-B559-3E04AA85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06EE2-34EB-4CF4-9C98-8B1DEA0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10D5C-CAC7-44D5-85BF-69AE48F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8BF25-5210-40C8-A2FE-B6821D92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DE2C6-9736-4E0C-A77C-931AAA0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D48A1-7D18-4395-9992-AC25CFF6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D34E0-A52E-49F6-8F1C-D0100815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8CE0F-8C0F-4551-B119-5427C8F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5D809-FC13-4200-A7B7-48F0068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FB80-0657-4B3A-80CF-C05048DF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6E4E4-066F-4283-B66C-4F4FCD8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AEAD5-EF43-4184-A21B-C9905A9C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B1F29-BC0C-4A80-BEFE-E68B98BA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27419-6FA9-44C8-8B80-EE2CAA59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689033-83BC-4737-9A01-3A6EBA5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BBAE77-A9F5-481E-96B5-F02A5BD7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569FC-ED2A-4840-BE0C-22DCEAD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C8624-D523-4026-ACB2-D05544C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E83E84-8466-4A72-9D5E-703F193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4918D1-A842-4637-BEB0-860F1CD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F353-31D5-4AF7-B8D9-26806886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7339FF-B00B-4290-8E64-525EEA0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A9CD00-FD4B-481A-B99A-7AA06F8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973F33-2522-4AB3-BABB-125B467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635F2-51FA-4EF9-8657-8BEAA9F8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F966B-074C-48C1-A9B9-2E2F0B94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1D37-01CC-40DC-AF5F-7412792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A309-B0FC-41A2-94BE-F496937D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14C0-A092-4C1A-8AAC-DB68D3F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4FB-AD76-41CA-B15C-34D038A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D0B4-9E42-4E37-ADB6-EB06D39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DCB8-3CB3-4F70-837B-49B2BBA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DFC6-2334-41E1-AB3E-619BD9FC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C45E-924B-4394-9066-D0F46C1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5B47-8568-4E2A-9992-95ED13C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2884-245C-497E-AD38-9955D64B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5E66-ADE5-4A60-8C55-04731535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AD3D-80C2-4702-8E10-AC7A75C7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65CA-1EBE-46DA-8384-404131A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AA23-61F8-4441-8F1F-C1CF7691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822-8CBD-47B9-B800-00D10399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7F49-7BD2-4615-8237-D4315A8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EAEF-EF67-4364-A65B-36947014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55FB-8F31-48F2-8241-4E2E1CB5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056A-C827-4C2C-8E5A-6DAADA1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B70B-CFBD-4E03-BDEB-D02E9DA7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1250-30AD-48C5-8B3C-18A7451C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07B0-AD76-47F9-9B5E-0845843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42FA-770F-4AB7-BF11-B3501F5A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B18C-E666-42CC-99EF-28904482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0FF9-2653-4E6D-93EE-FD72E265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F5C-0818-4BC4-BF2F-BF46B51E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F293-4137-48EF-B8C6-6D04E02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C3B3-5E40-4C8E-BB9B-A23AD5D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1321-C5A9-43E1-A119-41D795B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DE59-2973-42BC-B530-DD758DA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14BE-1F29-45DD-B9D7-764A683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AA2B-3704-4C41-BE11-388D3C2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C197-23D3-4848-B314-A747A99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7964-DD4F-4E8C-AD15-4637775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0589-506C-4AC6-8978-C8457820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7222-4084-479A-815B-060198A9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CE3-83D2-44F1-9276-67AC2FD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631D-C912-46F2-B1E4-C3D47A1F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0ED0-B511-42D1-959A-C0A52C18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D9B1-4B1B-466A-842F-A228077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362A-2B36-42EB-A5E4-2F4D1A43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95C4-90AC-4BB1-9106-019F2B0C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0D98-AEA1-4051-A059-169299C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C876-BE0B-42DA-981F-E3DDCB6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E4F85-98E6-4EF9-96AF-D723BBF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8F22-7055-4C44-8B10-CCFCC66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1F23-062B-4A12-A217-DE36E5B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CEE-98B0-4C65-9523-4C642FE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74C9-37BF-4315-A37E-52F7B184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3832-5A88-47C0-A811-8A124074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6480-4384-40ED-9BA9-9A16E3A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8D36A-1343-4909-9ACE-CF9E892B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D6B8-8EBC-4349-A396-34D299ED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F4BB-5F99-4287-866A-B66AC47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9A677-0655-4834-92B1-C9E373EE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B371-55D5-4315-AF1C-51418FF7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23CA-2963-44AD-ADD4-E9373E4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E615-BE9B-4657-89B0-B72436C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8D8-E04B-4883-A9A4-7AAF482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AFF3-427D-4FAD-8AB2-AC27D55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807E-612D-4801-A06E-2D47B36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6B57C-429E-46B8-9DD9-449D91A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CAA0-B667-4C27-87B4-5B1B0B9F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FDB4-A351-4C78-8B7D-740D8724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B79D-4076-4ACA-9DCC-9DD8BE2A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9902-6532-4443-990F-1F544E2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9E00-8B20-4B60-9E81-9F52BBA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B6CD-5C3A-4D9E-8580-1305FAD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DEAA-CDEC-4CF9-8580-69ACE2E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36C-94FE-454A-A2BD-1F57995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3FEF-E7F9-4492-AE53-CE1927B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09A1-E5CA-4A91-843C-F26F33E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9BFC-E491-4129-AB08-9F2CE204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27FD-501C-4151-B624-7CD408A0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EA653-F66A-44E6-8464-9442AEC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1817-DC3C-46D9-BB20-6FBCA4F7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906F6-F1D4-4B93-9E4A-4CE9E03A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40E93-595C-44F2-9D44-7FE05BCC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0D639-7AB9-44F0-BFBB-4FFEDC8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2D685-788B-4A24-A386-A2BB9169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2E9-6BAC-4DAA-8A07-8176DDB34D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1962-5499-47C8-9199-774615A3C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BE30-E979-4FD0-8578-06052063A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B54-6452-40EF-B933-1CADBAA3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4331-C08F-490F-A4FA-DECEF79EFE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530-C9F1-4C31-B5CB-3866C66C66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48840" indent="-3488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5816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58120" indent="-2988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507320" indent="-2484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06B-B268-46A3-83B2-4F9315E5CFE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47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96D-27F7-4B00-A960-D5F73F597720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F136-70A4-4855-AC50-82F475C36BC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E9A-5E2E-4D9A-B016-284396035FC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AF6-CE04-42BB-AE4F-40CDF05AF3C5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113-063E-4FC6-B586-4A95258D79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CE1-6CD4-44E5-9629-55F8E61C946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3FF-2655-436D-8AEB-B6FC02047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6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17C2-5DEB-485D-81AC-4BF7CDE16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4E1-F287-4682-93F9-A67BF98A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BA8-DEC4-49FF-8B4B-13CA9B51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57B-6F96-472D-AE0D-D0E390B03089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7FD-C843-41A6-8628-623858602CF8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DE0-E1ED-4767-8F30-2689D3535BC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28F1-781C-41E7-BE76-C31B795F2AF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B4F0-7408-412B-8174-CFD43A8B0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video" Target="file:///tmp/home/.config/libreoffice/4/user/gallery/Recorded%20Sound" TargetMode="External"/><Relationship Id="rId9" Type="http://schemas.microsoft.com/office/2007/relationships/media" Target="file:///tmp/home/.config/libreoffice/4/user/gallery/Recorded%20Sound" TargetMode="External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Embedded%20Sound%2011" TargetMode="External"/><Relationship Id="rId3" Type="http://schemas.microsoft.com/office/2007/relationships/media" Target="file:///tmp/home/.config/libreoffice/4/user/gallery/Embedded%20Sound%2011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228600" y="0"/>
            <a:ext cx="388620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10031"/>
                    </a:gs>
                    <a:gs pos="50000">
                      <a:srgbClr val="ff00ff"/>
                    </a:gs>
                    <a:gs pos="100000">
                      <a:srgbClr val="310031"/>
                    </a:gs>
                  </a:gsLst>
                  <a:lin ang="5400000"/>
                </a:gradFill>
                <a:latin typeface="Arial Black"/>
              </a:rPr>
              <a:t>The 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10031"/>
                  </a:gs>
                  <a:gs pos="50000">
                    <a:srgbClr val="ff00ff"/>
                  </a:gs>
                  <a:gs pos="100000">
                    <a:srgbClr val="31003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981080" y="2057400"/>
            <a:ext cx="1981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3c003c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Arial Black"/>
              </a:rPr>
              <a:t>O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3c003c"/>
                  </a:gs>
                  <a:gs pos="100000">
                    <a:srgbClr val="ff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8" name=""/>
          <p:cNvSpPr txBox="1"/>
          <p:nvPr/>
        </p:nvSpPr>
        <p:spPr>
          <a:xfrm rot="1267800">
            <a:off x="996480" y="1282680"/>
            <a:ext cx="6967800" cy="690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c003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MEANINGFUL QUO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c003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0" y="5334120"/>
            <a:ext cx="8915400" cy="12952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800600" y="228600"/>
            <a:ext cx="4114800" cy="2209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57800" y="5335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ff7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afff7"/>
                </a:solidFill>
                <a:latin typeface="Arial"/>
              </a:rPr>
              <a:t>Great Expectations is the most perfectly constructed and perfectly written of all Dicken’s Works” ~ Edgar H.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838080" y="762120"/>
            <a:ext cx="769644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WAH PWAH PWAH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PECIAL JOURNAL QUESTION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NUMBER 2!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8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934320" y="4952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621" fill="hold"/>
                                        <p:tgtEl>
                                          <p:spTgt spid="9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143000" y="91440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! Had I given Joe no reason to doubt my constancy, and to think that in prosperity I should grow cold and cast him off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3200400"/>
            <a:ext cx="7848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What theme could thi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quote about how Pip feel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towards Joe be applied?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995760" y="990720"/>
            <a:ext cx="73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“‘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lloa! Here’s a church!’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762120" y="3048120"/>
            <a:ext cx="7467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Who does Mr. Wemmic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get married to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143000" y="1600200"/>
            <a:ext cx="6858000" cy="32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Miss Skiffi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990720" y="762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wishing to intrude I have departured fur you are well again dear Pip and will do better without- Jo. P.S. Ever the best of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914400" y="411480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How does Pip rea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o the letter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1143000" y="990720"/>
            <a:ext cx="74674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Pip decides to g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home to Bid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295280" y="350532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Who is Pip talking to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Explain his sickness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" y="7621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see my state,’ said I. ‘I would come with you if I could; but indeed I am quite unable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143000" y="838080"/>
            <a:ext cx="6629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The debt collect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962520" y="2438280"/>
            <a:ext cx="99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a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85800" y="350532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he was dilusional a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layed on the couch all da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1219320" y="3581280"/>
            <a:ext cx="7467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hy did Pip feel this w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33" name=""/>
          <p:cNvSpPr/>
          <p:nvPr/>
        </p:nvSpPr>
        <p:spPr>
          <a:xfrm>
            <a:off x="1600200" y="990720"/>
            <a:ext cx="661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feel thankful that I have been ill, Joe,’ I sai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1447920" y="1295280"/>
            <a:ext cx="70102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e's glad that he coul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gain a relation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ith Jo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0880" y="3962520"/>
            <a:ext cx="56390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77491f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Who said this quote?</a:t>
            </a:r>
            <a:endParaRPr b="0" lang="en-US" sz="2400" spc="1" strike="noStrike">
              <a:ln w="0">
                <a:noFill/>
              </a:ln>
              <a:solidFill>
                <a:srgbClr val="77491f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685800"/>
            <a:ext cx="73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shall lose a fine opportunity if I put off going to Cairo and I am very much afraid I must go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2438280" y="3024360"/>
            <a:ext cx="4724640" cy="34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762120" y="1066680"/>
            <a:ext cx="5638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85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Herbert!</a:t>
            </a:r>
            <a:endParaRPr b="0" lang="en-US" sz="2400" spc="1" strike="noStrike">
              <a:ln w="0">
                <a:noFill/>
              </a:ln>
              <a:solidFill>
                <a:srgbClr val="c85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609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Lord, be merciful to him a sinner” -P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 rot="21028800">
            <a:off x="2820600" y="3998520"/>
            <a:ext cx="56386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o is this quote about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8712360" y="64263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133720" y="1676520"/>
            <a:ext cx="51656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gwi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12360" y="64263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0" y="1295280"/>
            <a:ext cx="9144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WAH PWAH PWAH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PECIAL JOURN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QUESTION NUMBER 1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4191120" y="5486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7" fill="hold"/>
                                        <p:tgtEl>
                                          <p:spTgt spid="9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990720" y="609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ouldn’t go so far as to say that, for that’s a deal to say; but she ain’t-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ing, Joe?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3886200"/>
            <a:ext cx="8763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Why doesn't Joe say Mis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Havisham is dead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762120" y="114300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’ee here, old chap,’ said Joe, bending over me. ‘Ever the best of friends; ain’t us, Pip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ashamed to answer hi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838080" y="365760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hy was Pip asham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762120" y="1752480"/>
            <a:ext cx="7848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 left Joe to bec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a gentlema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0:34Z</dcterms:created>
  <dc:creator>MTSD MTSD</dc:creator>
  <dc:description/>
  <dc:language>en-US</dc:language>
  <cp:lastModifiedBy>EASD EASD</cp:lastModifiedBy>
  <dcterms:modified xsi:type="dcterms:W3CDTF">2009-03-19T00:31:13Z</dcterms:modified>
  <cp:revision>9</cp:revision>
  <dc:subject/>
  <dc:title>PowerPoint Presentation</dc:title>
</cp:coreProperties>
</file>